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899-F3C1-4D5A-8770-53EB7A0E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16E-199C-4AC2-8EE2-88394B5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3AB-FFD9-48C9-B211-CEFE4B0B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591-D1BC-48A7-9ADF-15A64EA9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D6A3-805C-4AC9-9AC4-3DEBE32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2BE-C839-4D43-86D7-C0DE152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B46-9310-4552-A449-3A90110D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441F-9C5D-43BA-8E71-76A27F2B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00E-080A-4E40-A786-F60329E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57C2-9602-4427-A839-A9FFC810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96B4-7B84-419A-8219-ABA3664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F4E-C456-4C13-B21D-3BC6DB6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187-D42D-4944-91CB-7D3A681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6447-4A62-4971-8ADB-48E0B39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86D8-58A2-4C54-99D0-776911E2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DAF-F4B2-4E36-BC39-A16760A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AC63-A2C4-43C2-890A-ACFBD834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3DA1-4C8B-4CBE-811A-0A9B3978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EF96-CB73-47B3-B0D1-7F0DD0E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B20E-A0D1-427E-8DEB-356AE8F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26F2-A4EE-4D0B-AE3B-01DB7FD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2259-C033-4D63-A1DA-E49A92E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A0A-1B12-4D42-99E9-07C2C0E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D6C6-F953-4A15-B24F-E64DB96F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23C0-BFC9-49C1-A9F9-114603C1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2F99-73AE-4FD9-AC7B-15173A8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1E80-EFDB-42D6-B60A-7F536EF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FAAC-142D-44B0-8DB7-55BDCAA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25DC-1B08-48D1-A5DF-552CE58A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4AA0-F7F8-4983-BE0C-91952772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F3EE-CB49-4E40-B43F-16093461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5092-1644-4B2D-AE39-2F9688D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A6EB-2B1D-4C86-B3AB-0D4DB332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935-4755-4B07-B674-0B1BA3A4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6E53-20A6-44A1-ACBC-A3CB9CA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FB16-DBEE-4503-80CB-9CA0B09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729D-6FD6-4677-89FE-8FAA69B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9DC5-3096-4359-8CE4-A251EAD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44F4-FAA1-43B8-BCF6-01B14AD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3C7E-E7C7-4171-877B-1AC94659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5A8E-14E3-45D9-BD09-E6354A5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9760-FBAA-47F0-B265-9809C566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EADC1-770C-4FE8-AA75-0B30B8C1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CDA2-ADDC-4DDC-B3F0-639D29AB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77A-0199-4597-B03B-99EADED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0EF2-C7BE-4172-9AC0-E51AB10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695A-CEF7-4307-877D-B38687B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22A4-E003-4276-AEEC-7BBF334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ABDA-3E07-4F91-98CB-84AF51AB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29C39-F7D0-4616-A91D-AD2222C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70CA-E43F-43C7-8C9A-2A3C98F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4885-8047-4DC6-84B7-CF2619D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E2DE-0896-448D-8E6C-59BE53C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5838-EBB2-4003-BAB5-F4B10A4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1896-2116-46FF-B83F-7CD5EB2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D59-C04D-4AF5-A9B1-6A518D9A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CC69-E5B3-4878-B13A-63990989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235B-13F7-4568-B657-7E0FB2DA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8A58-89E0-4F43-BA7B-BD00F5DC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87B3-458C-4C03-B0E2-42ECEE3E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A779-2478-45EF-B4BE-19824B5D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D220-DA57-4F44-A5DF-6B04D70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0796-9BC8-4113-81ED-88B9386B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F500-9292-4DFF-A5DF-CE77EFD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57E37-324F-462A-8CB3-8FBD4DD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BF0B-1B4D-4091-A155-FB3B25C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424-BAA9-45DD-807D-B69AF1A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7ECD-AC9A-4482-96BA-CBDEC46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CD819-E3F3-447A-9C72-DB78E05D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8A6E-FAE1-4ED1-8170-9BCD6356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D85-AC2C-4058-B9B4-E521403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019-1606-4410-8C4D-EF05E36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115-6EAB-4688-B969-8BBFD84880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F757-F932-41DD-BB52-3472B66A0E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F967-50A0-4342-93A9-1D12E5F12D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B5ED-29D8-47BE-BB33-7C2CA037CF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6D9-B4AA-41BC-A550-9B1252F4521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3C91-96AD-4FEF-AA57-0F78721EBFC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10 Types of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33480" y="5641920"/>
            <a:ext cx="18097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rcRect l="50627" t="26003" r="20625" b="18000"/>
          <a:stretch/>
        </p:blipFill>
        <p:spPr>
          <a:xfrm>
            <a:off x="21337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do you know?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 as many sources of energy as you can identify in t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sential Question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energy so importa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re some of the pros and cons of the different energy sourc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can combining the various energy sources help provide us with efficient sources of energ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tential and Kinetic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energy sources can be described as potential and kinetic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 energy – stored energy, or energy that can be kept and used at a later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etic energy – energy in motion – the energy is contained in the movement of the object or movement inside the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10 Types of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etic – energy is motion (ex- a ball mov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vitational energy – energy due to the force of gravity (ex- ball held above the ground and dropp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ring energy - objects that can be straightened and then return to their shape later (ex- sp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ical energy – energy made available by the flow of electric charge through a conductor (ex- electricity and static cl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gnetic energy – a magnetic field that contains energy (ex-magnetic and a compas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chanical energy – energy of motion of objects (ex- scissors opening and closing and clicking a computer mo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10 Types of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energy – sensible and latent energy – energy given of by temperature or a change in state (ex- hot water and st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energy – fission and fusion  - when atoms are broken apart or fused together (ex- heavy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energy – energy produced by the frequencies of radiation (ex- x-ray, solar, and microwav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nergy – chemical compounds composed of atoms that form chemical bonds (ex- batteries, oil, and gunpow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ergy Changes Forms</a:t>
            </a:r>
            <a:br>
              <a:rPr sz="4100"/>
            </a:br>
            <a:r>
              <a:rPr b="0" i="1" lang="en-US" sz="1800" spc="-1" strike="noStrike">
                <a:solidFill>
                  <a:srgbClr val="ffffff"/>
                </a:solidFill>
                <a:latin typeface="Franklin Gothic Book"/>
              </a:rPr>
              <a:t>Can you identify the different forms of energy and what they change to?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Picture 2" descr="wok graphic"/>
          <p:cNvPicPr/>
          <p:nvPr/>
        </p:nvPicPr>
        <p:blipFill>
          <a:blip r:embed="rId1"/>
          <a:stretch/>
        </p:blipFill>
        <p:spPr>
          <a:xfrm>
            <a:off x="5335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flashlight graphic"/>
          <p:cNvPicPr/>
          <p:nvPr/>
        </p:nvPicPr>
        <p:blipFill>
          <a:blip r:embed="rId2"/>
          <a:stretch/>
        </p:blipFill>
        <p:spPr>
          <a:xfrm>
            <a:off x="25909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guitar graphic"/>
          <p:cNvPicPr/>
          <p:nvPr/>
        </p:nvPicPr>
        <p:blipFill>
          <a:blip r:embed="rId3"/>
          <a:stretch/>
        </p:blipFill>
        <p:spPr>
          <a:xfrm>
            <a:off x="45720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blinds graphics"/>
          <p:cNvPicPr/>
          <p:nvPr/>
        </p:nvPicPr>
        <p:blipFill>
          <a:blip r:embed="rId4"/>
          <a:stretch/>
        </p:blipFill>
        <p:spPr>
          <a:xfrm>
            <a:off x="6553080" y="1905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49860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W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25909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4572000" y="38862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tar String Plu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6553080" y="3906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inds being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457200" y="5265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Electrical to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2590920" y="52578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Chemical in batteries to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4419720" y="5257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Mechanical to Kinetic (Sou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400800" y="5265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Mechanical to Gravi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ergy Changes Forms</a:t>
            </a:r>
            <a:br>
              <a:rPr sz="4100"/>
            </a:br>
            <a:r>
              <a:rPr b="0" i="1" lang="en-US" sz="1800" spc="-1" strike="noStrike">
                <a:solidFill>
                  <a:srgbClr val="ffffff"/>
                </a:solidFill>
                <a:latin typeface="Franklin Gothic Book"/>
              </a:rPr>
              <a:t>Can you identify the different forms of energy and what they change to?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9860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ing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9092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4572000" y="3886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ow from Crossb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6553080" y="3906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 Sc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457200" y="526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Chemical (wax) to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2590920" y="5257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Gravitational to Kin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4419720" y="5257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Spring to Kin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400800" y="5265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Light to Elec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2" descr="candle graphic"/>
          <p:cNvPicPr/>
          <p:nvPr/>
        </p:nvPicPr>
        <p:blipFill>
          <a:blip r:embed="rId1"/>
          <a:stretch/>
        </p:blipFill>
        <p:spPr>
          <a:xfrm>
            <a:off x="5335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our glass graphic"/>
          <p:cNvPicPr/>
          <p:nvPr/>
        </p:nvPicPr>
        <p:blipFill>
          <a:blip r:embed="rId2"/>
          <a:stretch/>
        </p:blipFill>
        <p:spPr>
          <a:xfrm>
            <a:off x="2819520" y="1932120"/>
            <a:ext cx="1143000" cy="1544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rossbow graphic"/>
          <p:cNvPicPr/>
          <p:nvPr/>
        </p:nvPicPr>
        <p:blipFill>
          <a:blip r:embed="rId3"/>
          <a:stretch/>
        </p:blipFill>
        <p:spPr>
          <a:xfrm>
            <a:off x="45720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and scanner graphic"/>
          <p:cNvPicPr/>
          <p:nvPr/>
        </p:nvPicPr>
        <p:blipFill>
          <a:blip r:embed="rId4"/>
          <a:stretch/>
        </p:blipFill>
        <p:spPr>
          <a:xfrm>
            <a:off x="6629400" y="1905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loration Time – Your Tas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further explore the 10 types of energy, you will be assigned a source to research and create a poster presentation to present to the cla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should include the following item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finition of your energy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 three examples with images of your energy sour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is your energy source currently being us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 creative and think of a way you could use this energy source that is not already being used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Limit – 3 days for research and preparation and 1 day to pres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0:16:39Z</dcterms:created>
  <dc:creator>Christie</dc:creator>
  <dc:description/>
  <dc:language>en-US</dc:language>
  <cp:lastModifiedBy>GSCS</cp:lastModifiedBy>
  <dcterms:modified xsi:type="dcterms:W3CDTF">2011-11-16T12:41:19Z</dcterms:modified>
  <cp:revision>4</cp:revision>
  <dc:subject/>
  <dc:title>Overview of Energy and Power</dc:title>
</cp:coreProperties>
</file>